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149-84AF-4399-B2B3-B9AC790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3DB-832C-4B2D-9881-82624C97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5B1-1B3B-4DA6-8F4A-D92320A9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855-A921-481F-ADEC-B39DAAF7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BC26-8C91-44CA-9AB8-CE6E71C1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826F-902E-42D7-87D2-9E05508D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CFEB-D6AC-4B42-8730-A598626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39C2-B609-4C81-8A8F-6762DBB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CA75-2C48-4837-9160-144100D0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C684-D30F-470E-868B-3E044920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8CE-AF49-4D10-A6B3-DCC7435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EC2-1CF2-4293-8AA2-6B82E59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C639-6010-4F7E-9E6C-DE91DAA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7B23-6BAA-4874-91E2-21AE6A8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E3EA-B1FB-4010-9374-963A3C9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B61-BC2D-4C61-8804-5764CDEA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12F-F229-4857-8C84-C37EEA85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7AB-822E-4AE5-90EA-0934622F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6CF-BE29-4DCC-93E0-8E6BA72F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145-DD8C-4C20-9BD7-BCC04EF4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642-5046-4D3C-BCF6-350127EC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F47-B7C3-42E4-AC04-EC34B18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4C5-37A4-4CC6-8E1E-725C215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7BD-4311-47CB-8DF1-49B9770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CF6-6189-4B55-B499-4D49E988455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5D9-FF5E-4F0F-88A8-449B304628E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everywhere you l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nsversal 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ansversal line is a line which intersects two other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12500" b="0"/>
          <a:stretch/>
        </p:blipFill>
        <p:spPr>
          <a:xfrm>
            <a:off x="609480" y="2743200"/>
            <a:ext cx="3667320" cy="314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12500" b="0"/>
          <a:stretch/>
        </p:blipFill>
        <p:spPr>
          <a:xfrm>
            <a:off x="4952880" y="2743200"/>
            <a:ext cx="3789360" cy="324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6781680" y="3123720"/>
            <a:ext cx="0" cy="2590920"/>
          </a:xfrm>
          <a:prstGeom prst="line">
            <a:avLst/>
          </a:prstGeom>
          <a:ln w="38160">
            <a:solidFill>
              <a:srgbClr val="d3f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7480" y="3352680"/>
            <a:ext cx="0" cy="2438640"/>
          </a:xfrm>
          <a:prstGeom prst="line">
            <a:avLst/>
          </a:prstGeom>
          <a:ln w="38160">
            <a:solidFill>
              <a:srgbClr val="d3f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019920" y="3124080"/>
            <a:ext cx="1752480" cy="106704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 many shape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littl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 right angle is 9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188280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92240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5791320" y="4114800"/>
            <a:ext cx="0" cy="91440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029200"/>
            <a:ext cx="685800" cy="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n acute angle is between 0 and 9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7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2895480" cy="27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410080" y="4419720"/>
            <a:ext cx="1676520" cy="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791320" y="3657240"/>
            <a:ext cx="1295280" cy="76212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n obtuse angle is between 90 and 18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429000" cy="3157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24280" y="3014640"/>
            <a:ext cx="342900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4723920" y="3200040"/>
            <a:ext cx="304920" cy="198108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181480"/>
            <a:ext cx="1600200" cy="7621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jacent ang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gles are adjac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if they share a common s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975040"/>
            <a:ext cx="3200400" cy="31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276720" cy="3194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6400800" y="3581280"/>
            <a:ext cx="0" cy="9144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867280" y="3962160"/>
            <a:ext cx="533520" cy="53316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3600" y="4495680"/>
            <a:ext cx="457200" cy="6858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gles form a liner pair if they are adjacent and two of the sides point in opposite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4190760" cy="300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95680" y="3057480"/>
            <a:ext cx="4343400" cy="3114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4648320" y="4038480"/>
            <a:ext cx="2514600" cy="9144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723920" y="3962520"/>
            <a:ext cx="1295640" cy="4572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perpendicular if they form a right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528" t="0" r="10522" b="0"/>
          <a:stretch/>
        </p:blipFill>
        <p:spPr>
          <a:xfrm>
            <a:off x="874800" y="2971800"/>
            <a:ext cx="3357360" cy="299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21044" t="0" r="16535" b="0"/>
          <a:stretch/>
        </p:blipFill>
        <p:spPr>
          <a:xfrm>
            <a:off x="4952880" y="2971800"/>
            <a:ext cx="3549600" cy="293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6858000" y="3124080"/>
            <a:ext cx="0" cy="198144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105520"/>
            <a:ext cx="2361960" cy="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parallel if they are in the same plane but do not inters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6324480" y="3733560"/>
            <a:ext cx="0" cy="16002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91320" y="3809880"/>
            <a:ext cx="0" cy="14479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kew 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skew lines if they do not intersect, but are not in the sam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12500" b="0"/>
          <a:stretch/>
        </p:blipFill>
        <p:spPr>
          <a:xfrm>
            <a:off x="914400" y="3067200"/>
            <a:ext cx="3533760" cy="30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12500" b="0"/>
          <a:stretch/>
        </p:blipFill>
        <p:spPr>
          <a:xfrm>
            <a:off x="4876920" y="3133800"/>
            <a:ext cx="3456000" cy="2962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 flipV="1">
            <a:off x="5715000" y="3429000"/>
            <a:ext cx="1752480" cy="9907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191120"/>
            <a:ext cx="838080" cy="2286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03:45:02Z</dcterms:created>
  <dc:creator>User</dc:creator>
  <dc:description/>
  <dc:language>en-US</dc:language>
  <cp:lastModifiedBy>User</cp:lastModifiedBy>
  <dcterms:modified xsi:type="dcterms:W3CDTF">2008-08-11T04:55:46Z</dcterms:modified>
  <cp:revision>18</cp:revision>
  <dc:subject/>
  <dc:title>Geometry Vocabulary</dc:title>
</cp:coreProperties>
</file>